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C47-DA85-42ED-AA1F-E1684AE4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B06D-A8C8-423A-BD7B-AAEA04F1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1AA-D9BA-4A7E-8B0F-AFD08EC3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248-EE79-4A62-9693-7E0AF330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1AA-1EF8-4F51-8EE5-734BAC1B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8A6-0497-4EC1-A8BE-C1657FB6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C9A-C5DE-4DE0-BF59-DEFB8074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02A-929D-4BBF-B5D1-222DF860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410-BBEE-4F7A-AF1C-89807DE2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B04-5EAE-4FF9-9692-59E8F979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5AB0-CB0A-4708-BFB9-9B997A70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177-511C-40E9-A740-A61209E5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D5CA-41BE-46F8-84DB-2E2151C9A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ravel-images.com/rosto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upload.wikimedia.org/wikipedia/commons/thumb/d/d1/Ferrocarril_Suburbano_de_la_Zona_Metropolitana_del_Valle_de_M&#233;xico_estaci&#243;n_Buenavista.jpg/180px-Ferrocarril_Suburbano_de_la_Zona_Metropolitana_del_Valle_de_M&#233;xico_estaci&#243;n_Buenavista.jpg&amp;imgrefurl=http://en.wikipedia.org/wiki/Mexico_City&amp;usg=__tv4vkM-YhMrAhCdv7SdS_sr030s=&amp;h=135&amp;w=180&amp;sz=12&amp;hl=en&amp;start=5&amp;tbnid=zY2kFcsR4A1DhM:&amp;tbnh=76&amp;tbnw=101&amp;prev=/images%3Fq%3Destacion%2Bde%2Bpolicia%2Bmexico%2Bcity%26hl%3Den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110.photobucket.com/albums/n120/vhaldemar1/mexico/09_ciudad_de_mexico_estadio_azteca_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ravelpod.com/cache/city_maps/coyoacan-mexico.gif&amp;imgrefurl=http://www.travelpod.com/travel-blog-city/Mexico/Coyoacan/tpod.html&amp;usg=__loduIomGzmv8KNMdIZ7H9nyORoQ=&amp;h=500&amp;w=500&amp;sz=93&amp;hl=en&amp;start=7&amp;tbnid=jiZ5vjVk1HYXiM:&amp;tbnh=130&amp;tbnw=130&amp;prev=/images%3Fq%3Dcoyacan%2Bmexico%26hl%3De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Mexico City Downtown Royalty Free Stock Photos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60958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é ves en la foto? ¿Puedes describir la ciud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553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90600" y="2062080"/>
            <a:ext cx="47628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953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mexico46: Mexico City: Aztec statue - ruins of Tenochtitlan / ruinas de Tenochtitlan - photo by M.Torres - (c) Travel-Images.com - Stock Photography agency - Image Ban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609480"/>
            <a:ext cx="5114880" cy="5943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 rot="5400000">
            <a:off x="-1738440" y="3214800"/>
            <a:ext cx="5904000" cy="16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a estatua azteca en el Paseo de la Reforma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19280" y="1143000"/>
            <a:ext cx="4105440" cy="4572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60199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Cuáles observaciones puedes ha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843120"/>
            <a:ext cx="76197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743040"/>
            <a:ext cx="71625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0600" y="1847880"/>
            <a:ext cx="4762800" cy="3162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52480" y="548640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¡Qué moderno! ¿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219320"/>
            <a:ext cx="5105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Distrito Federal. The Constitution Square Plaza de la Constituci�n El Z�calo Of  Mexico City D.F. Mexico Travel &amp; Tour Pictures, Photos, &amp; Information."/>
          <p:cNvPicPr/>
          <p:nvPr/>
        </p:nvPicPr>
        <p:blipFill>
          <a:blip r:embed="rId1"/>
          <a:stretch/>
        </p:blipFill>
        <p:spPr>
          <a:xfrm>
            <a:off x="1752480" y="17524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47800" y="1490760"/>
            <a:ext cx="5648400" cy="3876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47920" y="57150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Y esta foto? ¿Qué ves aqu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71560" y="1238400"/>
            <a:ext cx="560088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Model Templo Mayor. The Constitution Square Plaza de la Constituci�n El Z�calo Of  Mexico City D.F. Mexico Travel &amp; Tour Pictures, Photos, &amp; Information."/>
          <p:cNvPicPr/>
          <p:nvPr/>
        </p:nvPicPr>
        <p:blipFill>
          <a:blip r:embed="rId1"/>
          <a:stretch/>
        </p:blipFill>
        <p:spPr>
          <a:xfrm>
            <a:off x="1600200" y="1219320"/>
            <a:ext cx="5562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295280"/>
            <a:ext cx="5105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71560" y="1566720"/>
            <a:ext cx="5600880" cy="3724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3880" y="55627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Y esta foto? ¿Dónde estamos ahora? Hay diferencias entre esta ciudad y el Distrito Feder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4952880" cy="4486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53341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é hay en el fondo? ¿Qué hay en la foto? ¿Dónde está esta ciud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743040"/>
            <a:ext cx="7162560" cy="5371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95280" y="62485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Ếsta es el Palacio de Bellas Artes en el Distrito Federal…¿Puedes describirlo un po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4800600" cy="4647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7920" y="60199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parte del parque Chapultepec…¿Qué ves en esta fo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Templo Mayor Ruins"/>
          <p:cNvPicPr/>
          <p:nvPr/>
        </p:nvPicPr>
        <p:blipFill>
          <a:blip r:embed="rId1"/>
          <a:stretch/>
        </p:blipFill>
        <p:spPr>
          <a:xfrm>
            <a:off x="533520" y="762120"/>
            <a:ext cx="333360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Templo Mayor"/>
          <p:cNvPicPr/>
          <p:nvPr/>
        </p:nvPicPr>
        <p:blipFill>
          <a:blip r:embed="rId2"/>
          <a:stretch/>
        </p:blipFill>
        <p:spPr>
          <a:xfrm>
            <a:off x="4876920" y="1752480"/>
            <a:ext cx="3333600" cy="4267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4800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emplo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5335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ués de un terremoto, estas ruinas aztecas aparecieron en las calles así que se puede decir que México es moderno y antiguo a la v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943600" cy="419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1600" y="5638680"/>
            <a:ext cx="601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5943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é piensas de esta foto? ¿Es la misma ciud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143000"/>
            <a:ext cx="3810240" cy="3124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267080" y="3886200"/>
            <a:ext cx="3552840" cy="2733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14400" y="48006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casa en Coyoacá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12952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mapa de la ciudad de México, D.F. y sus alre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867280" cy="4419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52480" y="586728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é puedes decir sobre esta fo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3:52:19Z</dcterms:created>
  <dc:creator>cderrane</dc:creator>
  <dc:description/>
  <dc:language>en-US</dc:language>
  <cp:lastModifiedBy>jbarber</cp:lastModifiedBy>
  <dcterms:modified xsi:type="dcterms:W3CDTF">2009-09-25T11:53:17Z</dcterms:modified>
  <cp:revision>3</cp:revision>
  <dc:subject/>
  <dc:title>Slide 1</dc:title>
</cp:coreProperties>
</file>